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F214-6DF9-47E1-BF3E-26F22FE67FD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B3B-9E12-41F9-B7BE-AA31B835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C31-F4E5-4D50-ABB3-74BCAF20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812-2185-4808-9909-233D30AF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9FB-9E9E-4B69-B9ED-149761A2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1B22-44A0-4332-A4B8-98F414C1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3607-2B6F-4BF8-BC39-DA582506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7CC7-30AB-4EB0-AA14-6CA03E37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A4E8-F676-4D9D-848F-9004EDDA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D39B-4576-4BAA-8959-693FAF84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C56E-46F0-4A30-8EA2-BE9152E0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12CB-1904-4EAC-AE04-956553E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CAC-9DBE-4721-B796-1D84B4E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87B9-B19A-4152-A3D6-78984F0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5B26-D313-4AAB-BCEE-F4F42EE6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EC16-A269-4A50-B570-5C44E7D8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89DB-413C-4823-A64F-59976B7F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89F2-4219-44A2-8071-B0A89F5F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6CB-18D8-44E1-8A0E-62D05B5A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375-71E9-4786-986E-37EE786D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69E-3FC5-4FE6-BC66-6B35EFDD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148-4537-4402-B383-110B0E36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F2C-2C1F-4363-B1E0-02475DC1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C59-89CD-406F-8ACD-238638B4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24E-A75E-47F3-AB73-CD41B88A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25A2-D53D-4FD2-B3BD-C4DB0134B5BE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2D71-E80B-4D9A-A4AC-416E673D1ED0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21:17:49Z</dcterms:modified>
  <cp:revision>141</cp:revision>
  <dc:subject/>
  <dc:title>TWIERDZENIE PITAGORASA</dc:title>
</cp:coreProperties>
</file>